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06A-CDE5-4778-8B15-D54F3234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D9C-6A00-4C2A-BD43-6F55830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72F-2ACF-4192-9B12-07540056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CC4-8B59-4895-87C0-A323A3BE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D9B-7B33-46C6-8B8A-056F503A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5840-44D5-42F5-888E-1F6CBB3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D04-8158-47BF-9A79-1A699345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9CF-787D-4394-A4CE-A0E3C070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39E-AB47-4F48-8D07-9992263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CEDE-8034-497D-B0A5-7C2AA50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1A80-BAD7-4C98-ACD1-566F94F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BD7-F2A9-4D1E-AB58-CE74792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2F64-4AEB-4695-89C6-B84237A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C53C-4E9C-428D-990A-8ABAF34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113-D039-4BCB-94DD-5A6F50C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2EB-60CF-47BD-95FA-E892B60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55E-F891-4AA4-AB33-F2FE78B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A300-EBCA-41AB-AAA6-EAC11742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B430-B9C5-463D-B477-5ED7842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AB4B-AF3A-4D7D-BDD3-1405093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CE25-FAE9-4028-8B30-CA803E74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D53D-048C-4A56-9970-B2B783D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90D-CA1A-469C-B552-8410469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8569-0463-45C5-90D2-81771F09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94E9-B2F9-46C2-A413-6E5607D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B7D5-91DA-44BC-AF46-C8E957E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4D4E-D824-4858-94D2-F068B17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39E5-021F-42B2-98E0-A47A95E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CAF2-8FEA-41E0-9E31-A3BAF416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8C9C-10CC-4597-B550-6E89CA3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D524-B163-458C-BA5D-AAB5BE2E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A986-2844-4F1D-A46D-A1A1230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B173-C2B9-4B0C-8128-740B75CD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40F-3586-4DA4-8F83-C55407CA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0843-6A79-407D-AD42-AE19FA1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3D17-EB17-4476-83E6-2BD0BE42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0AAC-108D-454E-A33E-7CEF8C6C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2CBA-8CE9-4D38-9EBD-E5E9E64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05B1-1484-464D-A09C-DB4ABF5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03DB-AB71-430E-BAB2-93C88B77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CB05-8C1A-4454-BAA7-90538FD1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9FAE-E94A-4076-A1BC-21BCDF1E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88B9-2674-4EB4-B561-54C4FD4D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1881-D071-4586-93D6-0213304A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AE0-F468-4970-8586-30EA4C5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143A-A34D-49BB-BD00-0EE44E8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E9FE-EF41-4189-A0FE-5AC8910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9CD0-4E88-4D8C-A14D-3F94C9D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DDCF-C69C-4660-93E6-8359898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A2F3-BE20-459E-BFDA-8107F53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D830-18BF-4200-B17E-BB1523F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0DA2-39F3-473E-86BC-9469FD2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44F67-919F-43F6-A874-BB8C99E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38D1-6C27-441D-9A5A-B658ED4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9A1C-D3C7-4567-B541-045DDD3F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3C1-A378-44A1-B16B-8F0F7EC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2550-B686-43F2-9BE0-504BA5E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9CD6F-FADA-45AD-B123-B7926C6F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3E82F-6EF3-4E3A-8BCD-5B14822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B5AE-6BFB-414C-BD6A-0C45EA8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8D16-C453-41B7-AB03-69CCE94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4020-FCE7-4E27-AF62-9D7E247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6AAA-FCA7-4B5B-81B9-B184AC44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5784-B6B2-4F77-8EB0-AA1CC63F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186C-7B57-41A0-83A6-384D040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3B4A-A974-4568-A05D-C5D0C91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50B-43B1-4BD8-A5B9-9B823CD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C2A1-EECF-476C-BC3F-55971A42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7E6E-464B-4D42-A910-CB0828D5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CDD3-9FF0-465B-AA83-482F70A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8B6-193B-4A17-9D9D-AC2BC11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F52-9CFA-4705-9118-8663933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51C-6922-4C41-BF8A-69DB3E2FC7D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8D1-6D6E-4AB5-9102-BCC0125FF7F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162-1F04-479B-9EA0-BC20F3115D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388-F280-49EB-8ABD-F1F4F8225A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40C-F120-4E2C-9C5D-D6F09F749D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B7C-28BE-4CFE-83E3-ACD6744F27E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0.15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(0.154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.5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this means square root of 0.154, but I couldn’t show that on PPT ’07.  Thanks Microsoft…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0.39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= 1 –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 – 0.39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6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 this info, the values are easy to calcula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(0.609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37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7.0 % are homozygous domin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Aa = 2(0.609)(0.39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0.47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.7 % are carr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percentages add up to 100 (ok, 100.1, sig figs…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tten disease is a rare recessive neurodegenerative disease, affecting 3 out of every 100 000 people in North America.  Based on this knowledge, what percentage of people are carriers and could pass it onto their offspr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sw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fine the dominant, normal allel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recessive a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occurrence is 3 out of 100 000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.0000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frequency of recessive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√0.00003 = 0.0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requency of the dominant allele i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1-0.005 = 0.9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68580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The frequency of carriers would be 2</a:t>
            </a:r>
            <a:r>
              <a:rPr b="0" i="1" lang="en-CA" sz="30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=2(0.995)(0.005) = 0.009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, approximately 1% of the population are carriers for this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Example (try on your own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t is believed that approximately 4% of Canadians of South American decent are carriers for the recessive condition sickle cell anemia.  If 98% of the alleles in this population are dominant, what should the prevalence of sickle cell anemia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lele Frequenc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rst equation looks at the percentage of alleles in a popu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percentage of dominant all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percentage of recessive all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30 million people in Canada, so how many alleles for eye colour should there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0 million –two for each 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38.9 million of those alleles are brown, what does that mean for the A and a valu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38.9/60 = 0.649 (64.9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21.1/60 = 0.351 (35.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our equation A + a = 1 holds true (0.649 + 0.351 = 1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% dominant alleles + % recessive alleles = 10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6248520" y="3657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These are the allele 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6840"/>
            <a:ext cx="7467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y in New Brunswick (population 750 000), the dominant allele frequency is 71.6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many dominant alleles should there b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.716 x 1 500 000 = 1 074 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ssive alle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+ a =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1 –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1 – 0.7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0.284 (28.4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84 x 1 500 000 = 426 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0520" y="380520"/>
            <a:ext cx="815364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this relate to population dynamic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abilit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 dominant allele frequency is 64.9%, then we have a 64.9% chance of selecting that all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would have a (0.649)(0.649) of selecting it twice -&gt; (0.649)(0.649) = (0.649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0.42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what is 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may recognize it as AA -&gt; homozygous dominan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wo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random individual in Canada has a 42.1% chance of being homozygous dominant for brown ey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2.1% of individuals in Canada should be homozygous domi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holds true for homozygous re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= 0.35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(0.351)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0.1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.3% of individuals should be homozygous recessive (blue ey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456840"/>
            <a:ext cx="8001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bout the carriers (heterozygotes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a = (0.649)(0.351) = 0.22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t, there are two ways to become heterozygous -&gt; your father’s allele is dominant, your mother’s recessive OR you mother’s is dominant, your father’s re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, we multiply by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Aa = 2(0.649)(0.351) = 0.45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5.6% are heterozygo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combine into the equ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+ 2Aa + a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 1 (look familiar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percentage of individuals that are homozygous dominant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eterozygou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omozygous recessive equals 100% -&gt; everyon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ease note that you’ll never use this equation as a whole -&gt;you will always merely take out terms from it to do individual calcul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 it work backward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45684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you know the percentage of people that are homozygous recessive (usually the easiest thing to identify), you can make assumptions about the allele frequ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15.4% of people are homozygous recessive for PTC paper tasting ability, what percentage are homozygous dominant, and what percentage are carri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28:36Z</dcterms:created>
  <dc:creator>ED18</dc:creator>
  <dc:description/>
  <dc:language>en-US</dc:language>
  <cp:lastModifiedBy>ED18</cp:lastModifiedBy>
  <dcterms:modified xsi:type="dcterms:W3CDTF">2012-04-25T04:20:28Z</dcterms:modified>
  <cp:revision>4</cp:revision>
  <dc:subject/>
  <dc:title>Hardy-Weinberg</dc:title>
</cp:coreProperties>
</file>